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766440" y="744120"/>
            <a:ext cx="526428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5FD5B21-59D9-4518-AAB5-B373126E4A2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6680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8246973-1382-476F-B9EB-5EB01818D97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8967-D178-4A0E-B996-A651D9F3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548-70D5-400A-85EA-4CD1B491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6FA0-6572-4C6F-934A-DC5E0693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375C-2C88-44C7-970D-3709AC95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5C6C-2B62-4C83-A0C9-C0418384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F0A9-3C09-4978-B942-A6C01985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A702-ACE2-4422-A43B-8C14AFE0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F5F0-7CFD-439F-B761-E71811EF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1172-E047-44BA-9A19-EAD4F9C6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F14-F835-4727-A23D-AE58388B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80C7-CD20-4585-A8C3-F12CA554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2AC-B94F-475F-A3BE-FA1DA8AD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800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7440" y="7008840"/>
            <a:ext cx="24937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CE00524-47D5-4EA2-89FE-F7C5952F6D24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45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eck 9"/>
          <p:cNvSpPr/>
          <p:nvPr/>
        </p:nvSpPr>
        <p:spPr>
          <a:xfrm>
            <a:off x="0" y="0"/>
            <a:ext cx="106934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hteck 10"/>
          <p:cNvSpPr/>
          <p:nvPr/>
        </p:nvSpPr>
        <p:spPr>
          <a:xfrm>
            <a:off x="0" y="1260360"/>
            <a:ext cx="10693440" cy="6301080"/>
          </a:xfrm>
          <a:prstGeom prst="rect">
            <a:avLst/>
          </a:prstGeom>
          <a:solidFill>
            <a:srgbClr val="db9e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rafik 13" descr="1.wmf"/>
          <p:cNvPicPr/>
          <p:nvPr/>
        </p:nvPicPr>
        <p:blipFill>
          <a:blip r:embed="rId3"/>
          <a:stretch/>
        </p:blipFill>
        <p:spPr>
          <a:xfrm>
            <a:off x="360360" y="360360"/>
            <a:ext cx="2716200" cy="480960"/>
          </a:xfrm>
          <a:prstGeom prst="rect">
            <a:avLst/>
          </a:prstGeom>
          <a:ln w="0">
            <a:noFill/>
          </a:ln>
        </p:spPr>
      </p:pic>
      <p:pic>
        <p:nvPicPr>
          <p:cNvPr id="50" name="Grafik 14" descr="2.wmf"/>
          <p:cNvPicPr/>
          <p:nvPr/>
        </p:nvPicPr>
        <p:blipFill>
          <a:blip r:embed="rId4"/>
          <a:stretch/>
        </p:blipFill>
        <p:spPr>
          <a:xfrm>
            <a:off x="7199280" y="162000"/>
            <a:ext cx="3127320" cy="992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www.ebusiness-lotse-oberfranken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8000" y="2160720"/>
            <a:ext cx="909000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Der eBusiness-Lotse Oberfranken – </a:t>
            </a:r>
            <a:br>
              <a:rPr sz="3800"/>
            </a:b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Ihr Begleiter in die Cloud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ne-Christine Habbel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jektleitung</a:t>
            </a:r>
            <a:br>
              <a:rPr sz="2400"/>
            </a:br>
            <a:br>
              <a:rPr sz="24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stitut für Informationssysteme (iisys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ochschule Hof </a:t>
            </a:r>
            <a:endParaRPr b="0" lang="en-US" sz="20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97" name="Picture 4" descr="http://3.bp.blogspot.com/-CmnuERVkI7A/T69XbI-SpBI/AAAAAAAAAvY/TWhpMzfrS3g/s1600/IMG_8173.jpg"/>
          <p:cNvPicPr/>
          <p:nvPr/>
        </p:nvPicPr>
        <p:blipFill>
          <a:blip r:embed="rId1"/>
          <a:stretch/>
        </p:blipFill>
        <p:spPr>
          <a:xfrm>
            <a:off x="5491080" y="4284720"/>
            <a:ext cx="48243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Durchführung von Veranstaltung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g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Networkingveranstalt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und Durchführung v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Veranstaltungsreihen in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hemenschwerpunkten und darüberhin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tag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ür Unternehmen 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e Veranstaltungen werden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kostenlo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gebo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Nächste Veranstaltungen in Oberfranken (Auszug)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n Source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17. Septem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eiger in das Thema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operationstreffen zwischen der LQN, dem Institut für Informationssysteme der Hochschule Hof (iisys) und dem eBusiness-Lotsen für Oberfranken“: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Projekt „Dein Weg in die Clou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nnerstag, 19. September 2013, 19.00 Uhr, Marktleugas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Die LQN-Mitglieder, die sich mit dem Thema IT vertrauter machen möch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andel im Wandel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woch, 25. September 2013, 19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Wer sich über verschiedene Vertriebskanäle informieren möchte: Verkauf im Laden und passender Online-Auftri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oogle Ad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8. Oktober 2013, 18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ieg in das T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undesw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nahme an Mess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t-sa 2013 mit GESIN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LOUDZONE 2014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interner Lotsen-Workshop zum Thema Clou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haltsplatzhalter 2"/>
          <p:cNvSpPr/>
          <p:nvPr/>
        </p:nvSpPr>
        <p:spPr>
          <a:xfrm>
            <a:off x="4986360" y="4808520"/>
            <a:ext cx="4608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loud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ienstag, 29. Okto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Zielgruppe: Einsteiger in das Thema zum Thema Clo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6360" y="1044360"/>
            <a:ext cx="9971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nsere Standorte in „Klein-Kanada“ </a:t>
            </a:r>
            <a:r>
              <a:rPr b="0" lang="de-DE" sz="1200" spc="-1" strike="noStrike">
                <a:solidFill>
                  <a:srgbClr val="db9e27"/>
                </a:solidFill>
                <a:latin typeface="Arial"/>
              </a:rPr>
              <a:t>(SZ 5.7.13)</a:t>
            </a:r>
            <a:endParaRPr b="0" lang="en-US" sz="12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24488" t="0" r="4378" b="18225"/>
          <a:stretch/>
        </p:blipFill>
        <p:spPr>
          <a:xfrm>
            <a:off x="7149960" y="4356000"/>
            <a:ext cx="1436760" cy="165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E:\Anne_2010\Anne\Bewerbungen\Bewerbungsfotos 2010\Fr. Habbe-BW-Bild.jpg"/>
          <p:cNvPicPr/>
          <p:nvPr/>
        </p:nvPicPr>
        <p:blipFill>
          <a:blip r:embed="rId2">
            <a:grayscl/>
          </a:blip>
          <a:srcRect l="0" t="9381" r="6250" b="12508"/>
          <a:stretch/>
        </p:blipFill>
        <p:spPr>
          <a:xfrm>
            <a:off x="7147080" y="2197080"/>
            <a:ext cx="1439640" cy="1800360"/>
          </a:xfrm>
          <a:prstGeom prst="rect">
            <a:avLst/>
          </a:prstGeom>
          <a:ln w="0">
            <a:noFill/>
          </a:ln>
        </p:spPr>
      </p:pic>
      <p:sp>
        <p:nvSpPr>
          <p:cNvPr id="129" name="Inhaltsplatzhalter 2"/>
          <p:cNvSpPr/>
          <p:nvPr/>
        </p:nvSpPr>
        <p:spPr>
          <a:xfrm>
            <a:off x="593640" y="1836720"/>
            <a:ext cx="612144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stitut für Informationssysteme (iis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Hochschule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nne-Christine Hab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lfons-Goppel-Platz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5028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GZ Bamberg Gm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atharina K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ronacherstr. 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6052 Bambe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business-lotse-oberfranken.d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de-DE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Grafik 1" descr=""/>
          <p:cNvPicPr/>
          <p:nvPr/>
        </p:nvPicPr>
        <p:blipFill>
          <a:blip r:embed="rId1"/>
          <a:stretch/>
        </p:blipFill>
        <p:spPr>
          <a:xfrm>
            <a:off x="1746360" y="4299120"/>
            <a:ext cx="3676680" cy="1298520"/>
          </a:xfrm>
          <a:prstGeom prst="rect">
            <a:avLst/>
          </a:prstGeom>
          <a:ln w="0">
            <a:noFill/>
          </a:ln>
        </p:spPr>
      </p:pic>
      <p:pic>
        <p:nvPicPr>
          <p:cNvPr id="101" name="Grafik 6" descr=""/>
          <p:cNvPicPr/>
          <p:nvPr/>
        </p:nvPicPr>
        <p:blipFill>
          <a:blip r:embed="rId2"/>
          <a:stretch/>
        </p:blipFill>
        <p:spPr>
          <a:xfrm>
            <a:off x="2630520" y="2197080"/>
            <a:ext cx="4889520" cy="1434960"/>
          </a:xfrm>
          <a:prstGeom prst="rect">
            <a:avLst/>
          </a:prstGeom>
          <a:ln w="0">
            <a:noFill/>
          </a:ln>
        </p:spPr>
      </p:pic>
      <p:pic>
        <p:nvPicPr>
          <p:cNvPr id="102" name="Grafik 1" descr=""/>
          <p:cNvPicPr/>
          <p:nvPr/>
        </p:nvPicPr>
        <p:blipFill>
          <a:blip r:embed="rId3"/>
          <a:stretch/>
        </p:blipFill>
        <p:spPr>
          <a:xfrm>
            <a:off x="6786720" y="4070520"/>
            <a:ext cx="2160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Übersich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schwerpunkt Mittelstand-Digital mit drei Förderinitiativen des BMWi (Projektdauer 3 Jah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eKompetenz-Netz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ndesweit gibt es 37 Lotsen in unterschiedlichsten Themen („Kompetenzzentrum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: Strukturwandel hin zu wissens- und innovationsbegleitendem Wachstum durch IT („Wettbewerbsfähigkei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msetzung und Ziel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7640" y="1836360"/>
            <a:ext cx="997092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lfe und Information für praktikable IKT-Lö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onale Unternehmen werden vom eBusiness-Lotsen Oberfranken anbieterneutral und praxisnah beim eBusiness unterstüt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ätzliche Innovationskraft in Unternehmen in Oberfranken freizulegen, Kenntnisse in IKT erwei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te Spezialisierungen, die auf die jeweilige Region zugeschnitt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mittlung von Alleinstellungsmerkm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wicklungsprioritä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ierung von Akte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meinsame Nutzung von Ressour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Schwerpunkte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Business-Lotse Oberfrank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Ansprechpartner für alle IT-relevanten Fragen in der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 drei Fokus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line-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systeme für ressourceneffiziente Prozes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60000" y="612720"/>
            <a:ext cx="64990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331920" indent="-3319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 Themenfelder aktuell: Green IT, Open Source, Gamification, Internet der Dinge, Crowdfunding für K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reichen der Zielgruppe der KMUs / Handwerksbetriebe durch aktive Bewerbung der VA (Social Media Kanäle, persönl. Ansprache, neue Adres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anstaltungen sind kostenlos 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es Networking der Lotsen in der Region („Sichtbarkeit erzeugen und Bestehendes weiter vernetzen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 die eigene Firma bzw. Kompetenz zu bestimmtem Thema, praxisrelevant und anbieterneutral, zu präsent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rcRect l="41124" t="7705" r="28341" b="40426"/>
          <a:stretch/>
        </p:blipFill>
        <p:spPr>
          <a:xfrm>
            <a:off x="7867800" y="1547640"/>
            <a:ext cx="1819080" cy="1738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8010360" y="3902040"/>
            <a:ext cx="15973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Partner im Konsortium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Hochschule Hof, zusammen mit dem Institut für Informationssysteme (iisys), positioniert sich als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Bindeglied zwischen Forschung und Anwe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Prof. Peinl (Lehrgebiet Architektur von Webanwendungen) mit Projekt „Dein Weg in die Cloud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eBusiness Lotse Oberfranken hat Lead Cloud im Cluster Mobile im eKompetenznetz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IGZ Bamberg GmbH trägt, zusammen mit dem IT-Cluster Oberfranken e.V., mit ihrem bestehenden Netzwerk dazu bei, den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irekten Kontakt zu den Unternehmen / Anwender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rzustellen und zu pf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Veranstalt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Leitfaden Cl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50720" y="88920"/>
            <a:ext cx="2374920" cy="811080"/>
          </a:xfrm>
          <a:prstGeom prst="rect">
            <a:avLst/>
          </a:prstGeom>
          <a:ln w="0">
            <a:noFill/>
          </a:ln>
        </p:spPr>
      </p:pic>
      <p:pic>
        <p:nvPicPr>
          <p:cNvPr id="115" name="Grafik 3" descr="Z:\Management\Management Files\Marketing\Logos\iisys_logo.png"/>
          <p:cNvPicPr/>
          <p:nvPr/>
        </p:nvPicPr>
        <p:blipFill>
          <a:blip r:embed="rId2"/>
          <a:stretch/>
        </p:blipFill>
        <p:spPr>
          <a:xfrm>
            <a:off x="2808360" y="324000"/>
            <a:ext cx="1674720" cy="57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IGZ Bamberg - Zentrum für Innovation und neue Unternehmen"/>
          <p:cNvPicPr/>
          <p:nvPr/>
        </p:nvPicPr>
        <p:blipFill>
          <a:blip r:embed="rId3"/>
          <a:stretch/>
        </p:blipFill>
        <p:spPr>
          <a:xfrm>
            <a:off x="4978440" y="257040"/>
            <a:ext cx="19526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edarfsanalyse der Unternehm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des Kompetenzzentrums müssen Informationsbedarf der Unternehmen abdecken („Lotse hat das Ohr am Mark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nehmensbefragung zu Schwerpunkt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se dienen als Basis für geeigne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(Veranstaltungen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smateriali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IT-Kompetenzatlas für Oberfranken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eines Kompetenzatlas für die Region Oberfranken hinsichtlich der drei Themenschwerpun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rktübersicht geeigneter IT-Anbieter für Unternehmen, di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en zu den Themenschwerpunkten su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Kompetenzatlas steht über den Webauftritt des Kompetenzzentrums zur Verfügung, wird laufend aktualis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3:26:40Z</dcterms:created>
  <dc:creator>Administrator</dc:creator>
  <dc:description/>
  <dc:language>en-US</dc:language>
  <cp:lastModifiedBy>Anne-Christine Habbel</cp:lastModifiedBy>
  <cp:lastPrinted>2013-09-08T11:10:16Z</cp:lastPrinted>
  <dcterms:modified xsi:type="dcterms:W3CDTF">2013-09-08T11:16:08Z</dcterms:modified>
  <cp:revision>101</cp:revision>
  <dc:subject/>
  <dc:title>Folie 1</dc:title>
</cp:coreProperties>
</file>